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BF4A-DC13-4A16-887F-0093831B0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8001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040" y="3928680"/>
            <a:ext cx="8001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C467-2D77-48DB-A366-7900C0F6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3904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13720" y="1142640"/>
            <a:ext cx="3904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040" y="3928680"/>
            <a:ext cx="3904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13720" y="3928680"/>
            <a:ext cx="3904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419D-5148-44B4-B086-CC8AEBB1E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2576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9440" y="1142640"/>
            <a:ext cx="2576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4840" y="1142640"/>
            <a:ext cx="2576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040" y="3928680"/>
            <a:ext cx="2576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19440" y="3928680"/>
            <a:ext cx="2576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4840" y="3928680"/>
            <a:ext cx="2576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E0FD-BB18-458D-968F-09A13C33F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616D-E571-44A7-A2BF-450A4F79E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14040" y="114264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3007-4B13-49CC-B48E-2AEB5B63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16BE5-ACAC-43C4-8437-3A49B082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3904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13720" y="1142640"/>
            <a:ext cx="3904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CB26-A207-49A2-8B0E-00CB20FA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418E-C505-48F8-8613-344FA99A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76320"/>
            <a:ext cx="80773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1258-B2D1-48CF-BE86-064663EB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3904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13720" y="1142640"/>
            <a:ext cx="3904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040" y="3928680"/>
            <a:ext cx="3904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299E-E25E-491A-A55C-0F858795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040" y="114264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64A7-FD86-4D85-A886-B793A891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3904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13720" y="1142640"/>
            <a:ext cx="3904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13720" y="3928680"/>
            <a:ext cx="3904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E49D-0D0C-4545-B6B2-16B206CC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3904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13720" y="1142640"/>
            <a:ext cx="3904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040" y="3928680"/>
            <a:ext cx="8001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5150-3681-42C1-A038-E9944476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8001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14040" y="3928680"/>
            <a:ext cx="8001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0895-5E2B-42FC-82D2-3D25C0AB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3904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13720" y="1142640"/>
            <a:ext cx="3904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040" y="3928680"/>
            <a:ext cx="3904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13720" y="3928680"/>
            <a:ext cx="3904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898F5-FF72-4054-B5B4-9E9281A89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2576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19440" y="1142640"/>
            <a:ext cx="2576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24840" y="1142640"/>
            <a:ext cx="2576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14040" y="3928680"/>
            <a:ext cx="2576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619440" y="3928680"/>
            <a:ext cx="2576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24840" y="3928680"/>
            <a:ext cx="2576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65CE-D8C7-4682-B2FF-D41C3E919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930A-C3C9-4295-8887-6D91090D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3904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3720" y="1142640"/>
            <a:ext cx="3904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ECA7-C6DD-4E47-827E-B9A655C9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13FA-641B-46C8-8B5C-A0CCA2C9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440" y="76320"/>
            <a:ext cx="80773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1800-B412-4B01-B939-9E3546A4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3904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3720" y="1142640"/>
            <a:ext cx="3904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040" y="3928680"/>
            <a:ext cx="3904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2101-CB15-4535-A285-7A974BE6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3904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3720" y="1142640"/>
            <a:ext cx="3904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13720" y="3928680"/>
            <a:ext cx="3904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E1A1-C3F3-4650-9485-15F48693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3904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3720" y="1142640"/>
            <a:ext cx="3904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040" y="3928680"/>
            <a:ext cx="8001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8324-C960-4078-AE52-92CAB19A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1066680" cy="121932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933960" y="6550560"/>
            <a:ext cx="19047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C3FC-9537-4738-B8F5-16D805D0AC6B}" type="slidenum">
              <a:rPr b="0" lang="de-DE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761760" y="6611400"/>
            <a:ext cx="28954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3880" y="6251400"/>
            <a:ext cx="5871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48B8-9E72-46DE-A87C-BA342497E2EA}" type="slidenum">
              <a:rPr b="1" lang="de-DE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914400"/>
            <a:ext cx="60948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914040" y="114264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3366"/>
              </a:buClr>
              <a:buSzPct val="80000"/>
              <a:buFont typeface="Arial"/>
              <a:buChar char="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785880" y="2112480"/>
            <a:ext cx="2239920" cy="69444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600" spc="-1" strike="noStrike">
                <a:solidFill>
                  <a:srgbClr val="ffffff"/>
                </a:solidFill>
                <a:latin typeface="Arial"/>
              </a:rPr>
              <a:t>Berne University of Applied Sciences</a:t>
            </a:r>
            <a:endParaRPr b="0" lang="en-US" sz="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600" spc="-1" strike="noStrike">
                <a:solidFill>
                  <a:srgbClr val="ffffff"/>
                </a:solidFill>
                <a:latin typeface="Arial"/>
              </a:rPr>
              <a:t>School of  </a:t>
            </a:r>
            <a:endParaRPr b="0" lang="en-US" sz="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600" spc="-1" strike="noStrike">
                <a:solidFill>
                  <a:srgbClr val="ffffff"/>
                </a:solidFill>
                <a:latin typeface="Arial"/>
              </a:rPr>
              <a:t>Engineering and Information Technology</a:t>
            </a:r>
            <a:endParaRPr b="0" lang="en-US" sz="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600" spc="-1" strike="noStrike">
                <a:solidFill>
                  <a:srgbClr val="ffffff"/>
                </a:solidFill>
                <a:latin typeface="Arial"/>
              </a:rPr>
              <a:t>Division of Electrical- and Communication Engineering</a:t>
            </a:r>
            <a:endParaRPr b="0" lang="en-US" sz="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0" y="3657600"/>
            <a:ext cx="671400" cy="1771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0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FAF3-05A6-4101-ADDE-3914B111DB51}" type="slidenum">
              <a:rPr b="1" lang="de-DE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Smith-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071800" y="966960"/>
          <a:ext cx="5868720" cy="58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1800" y="966960"/>
                    <a:ext cx="5868720" cy="58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3605760" y="2681280"/>
            <a:ext cx="279144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400" spc="-1" strike="noStrike">
                <a:solidFill>
                  <a:srgbClr val="006666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0120" y="5935680"/>
            <a:ext cx="2050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6666"/>
                </a:solidFill>
                <a:latin typeface="Arial"/>
              </a:rPr>
              <a:t>Prof. F. Dellsperge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55560" y="3867120"/>
            <a:ext cx="33490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400" spc="-1" strike="noStrike">
                <a:solidFill>
                  <a:srgbClr val="006666"/>
                </a:solidFill>
                <a:latin typeface="Arial"/>
              </a:rPr>
              <a:t>Smith Char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8607600" y="6480000"/>
            <a:ext cx="536400" cy="378000"/>
          </a:xfrm>
          <a:custGeom>
            <a:avLst/>
            <a:gdLst>
              <a:gd name="textAreaLeft" fmla="*/ 24480 w 536400"/>
              <a:gd name="textAreaRight" fmla="*/ 511920 w 536400"/>
              <a:gd name="textAreaTop" fmla="*/ 24480 h 378000"/>
              <a:gd name="textAreaBottom" fmla="*/ 353520 h 378000"/>
            </a:gdLst>
            <a:ahLst/>
            <a:rect l="textAreaLeft" t="textAreaTop" r="textAreaRight" b="textAreaBottom"/>
            <a:pathLst>
              <a:path w="30643" h="21600">
                <a:moveTo>
                  <a:pt x="0" y="0"/>
                </a:moveTo>
                <a:lnTo>
                  <a:pt x="30643" y="0"/>
                </a:lnTo>
                <a:lnTo>
                  <a:pt x="30643" y="21600"/>
                </a:lnTo>
                <a:lnTo>
                  <a:pt x="0" y="21600"/>
                </a:lnTo>
                <a:close/>
              </a:path>
              <a:path fill="lightenLess" w="30643" h="21600">
                <a:moveTo>
                  <a:pt x="0" y="0"/>
                </a:moveTo>
                <a:lnTo>
                  <a:pt x="30643" y="0"/>
                </a:lnTo>
                <a:lnTo>
                  <a:pt x="29243" y="1400"/>
                </a:lnTo>
                <a:lnTo>
                  <a:pt x="1400" y="1400"/>
                </a:lnTo>
                <a:close/>
              </a:path>
              <a:path fill="darken" w="30643" h="21600">
                <a:moveTo>
                  <a:pt x="30643" y="0"/>
                </a:moveTo>
                <a:lnTo>
                  <a:pt x="30643" y="21600"/>
                </a:lnTo>
                <a:lnTo>
                  <a:pt x="29243" y="20200"/>
                </a:lnTo>
                <a:lnTo>
                  <a:pt x="29243" y="1400"/>
                </a:lnTo>
                <a:close/>
              </a:path>
              <a:path fill="darkenLess" w="30643" h="21600">
                <a:moveTo>
                  <a:pt x="30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43" y="20200"/>
                </a:lnTo>
                <a:close/>
              </a:path>
              <a:path fill="lighten" w="30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43" h="21600">
                <a:moveTo>
                  <a:pt x="8315" y="3794"/>
                </a:moveTo>
                <a:lnTo>
                  <a:pt x="22328" y="10800"/>
                </a:lnTo>
                <a:lnTo>
                  <a:pt x="8315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825D-5D17-4ADB-B475-B6E6CD99404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Smith-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013280" y="1727280"/>
            <a:ext cx="5130720" cy="5130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851040" y="1025640"/>
            <a:ext cx="797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Example 1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8607600" y="6480000"/>
            <a:ext cx="536400" cy="378000"/>
          </a:xfrm>
          <a:custGeom>
            <a:avLst/>
            <a:gdLst>
              <a:gd name="textAreaLeft" fmla="*/ 24480 w 536400"/>
              <a:gd name="textAreaRight" fmla="*/ 511920 w 536400"/>
              <a:gd name="textAreaTop" fmla="*/ 24480 h 378000"/>
              <a:gd name="textAreaBottom" fmla="*/ 353520 h 378000"/>
            </a:gdLst>
            <a:ahLst/>
            <a:rect l="textAreaLeft" t="textAreaTop" r="textAreaRight" b="textAreaBottom"/>
            <a:pathLst>
              <a:path w="30643" h="21600">
                <a:moveTo>
                  <a:pt x="0" y="0"/>
                </a:moveTo>
                <a:lnTo>
                  <a:pt x="30643" y="0"/>
                </a:lnTo>
                <a:lnTo>
                  <a:pt x="30643" y="21600"/>
                </a:lnTo>
                <a:lnTo>
                  <a:pt x="0" y="21600"/>
                </a:lnTo>
                <a:close/>
              </a:path>
              <a:path fill="lightenLess" w="30643" h="21600">
                <a:moveTo>
                  <a:pt x="0" y="0"/>
                </a:moveTo>
                <a:lnTo>
                  <a:pt x="30643" y="0"/>
                </a:lnTo>
                <a:lnTo>
                  <a:pt x="29243" y="1400"/>
                </a:lnTo>
                <a:lnTo>
                  <a:pt x="1400" y="1400"/>
                </a:lnTo>
                <a:close/>
              </a:path>
              <a:path fill="darken" w="30643" h="21600">
                <a:moveTo>
                  <a:pt x="30643" y="0"/>
                </a:moveTo>
                <a:lnTo>
                  <a:pt x="30643" y="21600"/>
                </a:lnTo>
                <a:lnTo>
                  <a:pt x="29243" y="20200"/>
                </a:lnTo>
                <a:lnTo>
                  <a:pt x="29243" y="1400"/>
                </a:lnTo>
                <a:close/>
              </a:path>
              <a:path fill="darkenLess" w="30643" h="21600">
                <a:moveTo>
                  <a:pt x="30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43" y="20200"/>
                </a:lnTo>
                <a:close/>
              </a:path>
              <a:path fill="lighten" w="30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43" h="21600">
                <a:moveTo>
                  <a:pt x="8315" y="3794"/>
                </a:moveTo>
                <a:lnTo>
                  <a:pt x="22328" y="10800"/>
                </a:lnTo>
                <a:lnTo>
                  <a:pt x="8315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22280" y="1738440"/>
            <a:ext cx="1843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9880" y="1364040"/>
            <a:ext cx="76309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Design a LC Pi-Lowpass network to match an impedance of (30+j10)</a:t>
            </a:r>
            <a:r>
              <a:rPr b="1" lang="el-GR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 to 50</a:t>
            </a:r>
            <a:r>
              <a:rPr b="1" lang="de-CH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. Frequency = 470 MHz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16120" y="4456080"/>
            <a:ext cx="3452760" cy="172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AF94-35DD-4078-B19E-5BAD5C9EE2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Smith-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43040" y="4308480"/>
            <a:ext cx="3497040" cy="19670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51040" y="1025640"/>
            <a:ext cx="797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Example 2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8607600" y="6480000"/>
            <a:ext cx="536400" cy="378000"/>
          </a:xfrm>
          <a:custGeom>
            <a:avLst/>
            <a:gdLst>
              <a:gd name="textAreaLeft" fmla="*/ 24480 w 536400"/>
              <a:gd name="textAreaRight" fmla="*/ 511920 w 536400"/>
              <a:gd name="textAreaTop" fmla="*/ 24480 h 378000"/>
              <a:gd name="textAreaBottom" fmla="*/ 353520 h 378000"/>
            </a:gdLst>
            <a:ahLst/>
            <a:rect l="textAreaLeft" t="textAreaTop" r="textAreaRight" b="textAreaBottom"/>
            <a:pathLst>
              <a:path w="30643" h="21600">
                <a:moveTo>
                  <a:pt x="0" y="0"/>
                </a:moveTo>
                <a:lnTo>
                  <a:pt x="30643" y="0"/>
                </a:lnTo>
                <a:lnTo>
                  <a:pt x="30643" y="21600"/>
                </a:lnTo>
                <a:lnTo>
                  <a:pt x="0" y="21600"/>
                </a:lnTo>
                <a:close/>
              </a:path>
              <a:path fill="lightenLess" w="30643" h="21600">
                <a:moveTo>
                  <a:pt x="0" y="0"/>
                </a:moveTo>
                <a:lnTo>
                  <a:pt x="30643" y="0"/>
                </a:lnTo>
                <a:lnTo>
                  <a:pt x="29243" y="1400"/>
                </a:lnTo>
                <a:lnTo>
                  <a:pt x="1400" y="1400"/>
                </a:lnTo>
                <a:close/>
              </a:path>
              <a:path fill="darken" w="30643" h="21600">
                <a:moveTo>
                  <a:pt x="30643" y="0"/>
                </a:moveTo>
                <a:lnTo>
                  <a:pt x="30643" y="21600"/>
                </a:lnTo>
                <a:lnTo>
                  <a:pt x="29243" y="20200"/>
                </a:lnTo>
                <a:lnTo>
                  <a:pt x="29243" y="1400"/>
                </a:lnTo>
                <a:close/>
              </a:path>
              <a:path fill="darkenLess" w="30643" h="21600">
                <a:moveTo>
                  <a:pt x="30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43" y="20200"/>
                </a:lnTo>
                <a:close/>
              </a:path>
              <a:path fill="lighten" w="30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43" h="21600">
                <a:moveTo>
                  <a:pt x="8315" y="3794"/>
                </a:moveTo>
                <a:lnTo>
                  <a:pt x="22328" y="10800"/>
                </a:lnTo>
                <a:lnTo>
                  <a:pt x="8315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22280" y="1738440"/>
            <a:ext cx="1843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58960" y="1406160"/>
            <a:ext cx="76309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Design a matching network to match an impedance of (30+j10)</a:t>
            </a:r>
            <a:r>
              <a:rPr b="1" lang="el-GR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 to 50</a:t>
            </a:r>
            <a:r>
              <a:rPr b="1" lang="de-CH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. Frequency = 470 MHz. Use a lossless transmission line with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Z = 50</a:t>
            </a:r>
            <a:r>
              <a:rPr b="1" lang="el-GR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 and a parallel capacitor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189320" y="1903320"/>
            <a:ext cx="4954680" cy="4954680"/>
          </a:xfrm>
          <a:prstGeom prst="rect">
            <a:avLst/>
          </a:prstGeom>
          <a:ln w="0">
            <a:noFill/>
          </a:ln>
        </p:spPr>
      </p:pic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8607600" y="6480000"/>
            <a:ext cx="536400" cy="378000"/>
          </a:xfrm>
          <a:custGeom>
            <a:avLst/>
            <a:gdLst>
              <a:gd name="textAreaLeft" fmla="*/ 24480 w 536400"/>
              <a:gd name="textAreaRight" fmla="*/ 511920 w 536400"/>
              <a:gd name="textAreaTop" fmla="*/ 24480 h 378000"/>
              <a:gd name="textAreaBottom" fmla="*/ 353520 h 378000"/>
            </a:gdLst>
            <a:ahLst/>
            <a:rect l="textAreaLeft" t="textAreaTop" r="textAreaRight" b="textAreaBottom"/>
            <a:pathLst>
              <a:path w="30643" h="21600">
                <a:moveTo>
                  <a:pt x="0" y="0"/>
                </a:moveTo>
                <a:lnTo>
                  <a:pt x="30643" y="0"/>
                </a:lnTo>
                <a:lnTo>
                  <a:pt x="30643" y="21600"/>
                </a:lnTo>
                <a:lnTo>
                  <a:pt x="0" y="21600"/>
                </a:lnTo>
                <a:close/>
              </a:path>
              <a:path fill="lightenLess" w="30643" h="21600">
                <a:moveTo>
                  <a:pt x="0" y="0"/>
                </a:moveTo>
                <a:lnTo>
                  <a:pt x="30643" y="0"/>
                </a:lnTo>
                <a:lnTo>
                  <a:pt x="29243" y="1400"/>
                </a:lnTo>
                <a:lnTo>
                  <a:pt x="1400" y="1400"/>
                </a:lnTo>
                <a:close/>
              </a:path>
              <a:path fill="darken" w="30643" h="21600">
                <a:moveTo>
                  <a:pt x="30643" y="0"/>
                </a:moveTo>
                <a:lnTo>
                  <a:pt x="30643" y="21600"/>
                </a:lnTo>
                <a:lnTo>
                  <a:pt x="29243" y="20200"/>
                </a:lnTo>
                <a:lnTo>
                  <a:pt x="29243" y="1400"/>
                </a:lnTo>
                <a:close/>
              </a:path>
              <a:path fill="darkenLess" w="30643" h="21600">
                <a:moveTo>
                  <a:pt x="30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43" y="20200"/>
                </a:lnTo>
                <a:close/>
              </a:path>
              <a:path fill="lighten" w="30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43" h="21600">
                <a:moveTo>
                  <a:pt x="8315" y="3794"/>
                </a:moveTo>
                <a:lnTo>
                  <a:pt x="22328" y="10800"/>
                </a:lnTo>
                <a:lnTo>
                  <a:pt x="8315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FE0B-526E-4B18-A0FA-439678F27F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Smith-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219560" y="1933560"/>
            <a:ext cx="4924440" cy="49244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851040" y="1025640"/>
            <a:ext cx="797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Example 3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8607600" y="6480000"/>
            <a:ext cx="536400" cy="378000"/>
          </a:xfrm>
          <a:custGeom>
            <a:avLst/>
            <a:gdLst>
              <a:gd name="textAreaLeft" fmla="*/ 24480 w 536400"/>
              <a:gd name="textAreaRight" fmla="*/ 511920 w 536400"/>
              <a:gd name="textAreaTop" fmla="*/ 24480 h 378000"/>
              <a:gd name="textAreaBottom" fmla="*/ 353520 h 378000"/>
            </a:gdLst>
            <a:ahLst/>
            <a:rect l="textAreaLeft" t="textAreaTop" r="textAreaRight" b="textAreaBottom"/>
            <a:pathLst>
              <a:path w="30643" h="21600">
                <a:moveTo>
                  <a:pt x="0" y="0"/>
                </a:moveTo>
                <a:lnTo>
                  <a:pt x="30643" y="0"/>
                </a:lnTo>
                <a:lnTo>
                  <a:pt x="30643" y="21600"/>
                </a:lnTo>
                <a:lnTo>
                  <a:pt x="0" y="21600"/>
                </a:lnTo>
                <a:close/>
              </a:path>
              <a:path fill="lightenLess" w="30643" h="21600">
                <a:moveTo>
                  <a:pt x="0" y="0"/>
                </a:moveTo>
                <a:lnTo>
                  <a:pt x="30643" y="0"/>
                </a:lnTo>
                <a:lnTo>
                  <a:pt x="29243" y="1400"/>
                </a:lnTo>
                <a:lnTo>
                  <a:pt x="1400" y="1400"/>
                </a:lnTo>
                <a:close/>
              </a:path>
              <a:path fill="darken" w="30643" h="21600">
                <a:moveTo>
                  <a:pt x="30643" y="0"/>
                </a:moveTo>
                <a:lnTo>
                  <a:pt x="30643" y="21600"/>
                </a:lnTo>
                <a:lnTo>
                  <a:pt x="29243" y="20200"/>
                </a:lnTo>
                <a:lnTo>
                  <a:pt x="29243" y="1400"/>
                </a:lnTo>
                <a:close/>
              </a:path>
              <a:path fill="darkenLess" w="30643" h="21600">
                <a:moveTo>
                  <a:pt x="30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43" y="20200"/>
                </a:lnTo>
                <a:close/>
              </a:path>
              <a:path fill="lighten" w="30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43" h="21600">
                <a:moveTo>
                  <a:pt x="8315" y="3794"/>
                </a:moveTo>
                <a:lnTo>
                  <a:pt x="22328" y="10800"/>
                </a:lnTo>
                <a:lnTo>
                  <a:pt x="8315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22280" y="1738440"/>
            <a:ext cx="1843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49240" y="1486800"/>
            <a:ext cx="7631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Replace the capacitor in example 2 with a shorted stub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38360" y="4346640"/>
            <a:ext cx="3487680" cy="196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292E-147C-45F8-86E0-1588B7BA93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Smith-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44480" y="4251240"/>
            <a:ext cx="3392640" cy="1908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851040" y="1025640"/>
            <a:ext cx="797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Example 4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>
            <a:hlinkClick r:id="" action="ppaction://hlinkshowjump?jump=nextslide"/>
          </p:cNvPr>
          <p:cNvSpPr/>
          <p:nvPr/>
        </p:nvSpPr>
        <p:spPr>
          <a:xfrm>
            <a:off x="8607600" y="6480000"/>
            <a:ext cx="536400" cy="378000"/>
          </a:xfrm>
          <a:custGeom>
            <a:avLst/>
            <a:gdLst>
              <a:gd name="textAreaLeft" fmla="*/ 24480 w 536400"/>
              <a:gd name="textAreaRight" fmla="*/ 511920 w 536400"/>
              <a:gd name="textAreaTop" fmla="*/ 24480 h 378000"/>
              <a:gd name="textAreaBottom" fmla="*/ 353520 h 378000"/>
            </a:gdLst>
            <a:ahLst/>
            <a:rect l="textAreaLeft" t="textAreaTop" r="textAreaRight" b="textAreaBottom"/>
            <a:pathLst>
              <a:path w="30643" h="21600">
                <a:moveTo>
                  <a:pt x="0" y="0"/>
                </a:moveTo>
                <a:lnTo>
                  <a:pt x="30643" y="0"/>
                </a:lnTo>
                <a:lnTo>
                  <a:pt x="30643" y="21600"/>
                </a:lnTo>
                <a:lnTo>
                  <a:pt x="0" y="21600"/>
                </a:lnTo>
                <a:close/>
              </a:path>
              <a:path fill="lightenLess" w="30643" h="21600">
                <a:moveTo>
                  <a:pt x="0" y="0"/>
                </a:moveTo>
                <a:lnTo>
                  <a:pt x="30643" y="0"/>
                </a:lnTo>
                <a:lnTo>
                  <a:pt x="29243" y="1400"/>
                </a:lnTo>
                <a:lnTo>
                  <a:pt x="1400" y="1400"/>
                </a:lnTo>
                <a:close/>
              </a:path>
              <a:path fill="darken" w="30643" h="21600">
                <a:moveTo>
                  <a:pt x="30643" y="0"/>
                </a:moveTo>
                <a:lnTo>
                  <a:pt x="30643" y="21600"/>
                </a:lnTo>
                <a:lnTo>
                  <a:pt x="29243" y="20200"/>
                </a:lnTo>
                <a:lnTo>
                  <a:pt x="29243" y="1400"/>
                </a:lnTo>
                <a:close/>
              </a:path>
              <a:path fill="darkenLess" w="30643" h="21600">
                <a:moveTo>
                  <a:pt x="30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43" y="20200"/>
                </a:lnTo>
                <a:close/>
              </a:path>
              <a:path fill="lighten" w="30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43" h="21600">
                <a:moveTo>
                  <a:pt x="8315" y="3794"/>
                </a:moveTo>
                <a:lnTo>
                  <a:pt x="22328" y="10800"/>
                </a:lnTo>
                <a:lnTo>
                  <a:pt x="8315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322280" y="1738440"/>
            <a:ext cx="1843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49240" y="1486800"/>
            <a:ext cx="7631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Replace shorted stub in example 3 with an open stub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130640" y="1844640"/>
            <a:ext cx="5013360" cy="5013360"/>
          </a:xfrm>
          <a:prstGeom prst="rect">
            <a:avLst/>
          </a:prstGeom>
          <a:ln w="0">
            <a:noFill/>
          </a:ln>
        </p:spPr>
      </p:pic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8607600" y="6480000"/>
            <a:ext cx="536400" cy="378000"/>
          </a:xfrm>
          <a:custGeom>
            <a:avLst/>
            <a:gdLst>
              <a:gd name="textAreaLeft" fmla="*/ 24480 w 536400"/>
              <a:gd name="textAreaRight" fmla="*/ 511920 w 536400"/>
              <a:gd name="textAreaTop" fmla="*/ 24480 h 378000"/>
              <a:gd name="textAreaBottom" fmla="*/ 353520 h 378000"/>
            </a:gdLst>
            <a:ahLst/>
            <a:rect l="textAreaLeft" t="textAreaTop" r="textAreaRight" b="textAreaBottom"/>
            <a:pathLst>
              <a:path w="30643" h="21600">
                <a:moveTo>
                  <a:pt x="0" y="0"/>
                </a:moveTo>
                <a:lnTo>
                  <a:pt x="30643" y="0"/>
                </a:lnTo>
                <a:lnTo>
                  <a:pt x="30643" y="21600"/>
                </a:lnTo>
                <a:lnTo>
                  <a:pt x="0" y="21600"/>
                </a:lnTo>
                <a:close/>
              </a:path>
              <a:path fill="lightenLess" w="30643" h="21600">
                <a:moveTo>
                  <a:pt x="0" y="0"/>
                </a:moveTo>
                <a:lnTo>
                  <a:pt x="30643" y="0"/>
                </a:lnTo>
                <a:lnTo>
                  <a:pt x="29243" y="1400"/>
                </a:lnTo>
                <a:lnTo>
                  <a:pt x="1400" y="1400"/>
                </a:lnTo>
                <a:close/>
              </a:path>
              <a:path fill="darken" w="30643" h="21600">
                <a:moveTo>
                  <a:pt x="30643" y="0"/>
                </a:moveTo>
                <a:lnTo>
                  <a:pt x="30643" y="21600"/>
                </a:lnTo>
                <a:lnTo>
                  <a:pt x="29243" y="20200"/>
                </a:lnTo>
                <a:lnTo>
                  <a:pt x="29243" y="1400"/>
                </a:lnTo>
                <a:close/>
              </a:path>
              <a:path fill="darkenLess" w="30643" h="21600">
                <a:moveTo>
                  <a:pt x="30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43" y="20200"/>
                </a:lnTo>
                <a:close/>
              </a:path>
              <a:path fill="lighten" w="30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43" h="21600">
                <a:moveTo>
                  <a:pt x="8315" y="3794"/>
                </a:moveTo>
                <a:lnTo>
                  <a:pt x="22328" y="10800"/>
                </a:lnTo>
                <a:lnTo>
                  <a:pt x="8315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728E-240D-43F8-AC32-2639EFDD31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Smith-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51040" y="1025640"/>
            <a:ext cx="797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Example 99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8643960" y="6516720"/>
            <a:ext cx="500040" cy="341280"/>
          </a:xfrm>
          <a:custGeom>
            <a:avLst/>
            <a:gdLst>
              <a:gd name="textAreaLeft" fmla="*/ 21960 w 500040"/>
              <a:gd name="textAreaRight" fmla="*/ 478080 w 500040"/>
              <a:gd name="textAreaTop" fmla="*/ 21960 h 341280"/>
              <a:gd name="textAreaBottom" fmla="*/ 319320 h 341280"/>
            </a:gdLst>
            <a:ahLst/>
            <a:rect l="textAreaLeft" t="textAreaTop" r="textAreaRight" b="textAreaBottom"/>
            <a:pathLst>
              <a:path w="31638" h="21600">
                <a:moveTo>
                  <a:pt x="0" y="0"/>
                </a:moveTo>
                <a:lnTo>
                  <a:pt x="31638" y="0"/>
                </a:lnTo>
                <a:lnTo>
                  <a:pt x="31638" y="21600"/>
                </a:lnTo>
                <a:lnTo>
                  <a:pt x="0" y="21600"/>
                </a:lnTo>
                <a:close/>
              </a:path>
              <a:path fill="lightenLess" w="31638" h="21600">
                <a:moveTo>
                  <a:pt x="0" y="0"/>
                </a:moveTo>
                <a:lnTo>
                  <a:pt x="31638" y="0"/>
                </a:lnTo>
                <a:lnTo>
                  <a:pt x="30238" y="1400"/>
                </a:lnTo>
                <a:lnTo>
                  <a:pt x="1400" y="1400"/>
                </a:lnTo>
                <a:close/>
              </a:path>
              <a:path fill="darken" w="31638" h="21600">
                <a:moveTo>
                  <a:pt x="31638" y="0"/>
                </a:moveTo>
                <a:lnTo>
                  <a:pt x="31638" y="21600"/>
                </a:lnTo>
                <a:lnTo>
                  <a:pt x="30238" y="20200"/>
                </a:lnTo>
                <a:lnTo>
                  <a:pt x="30238" y="1400"/>
                </a:lnTo>
                <a:close/>
              </a:path>
              <a:path fill="darkenLess" w="31638" h="21600">
                <a:moveTo>
                  <a:pt x="316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238" y="20200"/>
                </a:lnTo>
                <a:close/>
              </a:path>
              <a:path fill="lighten" w="316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638" h="21600">
                <a:moveTo>
                  <a:pt x="12320" y="10800"/>
                </a:moveTo>
                <a:lnTo>
                  <a:pt x="22825" y="3794"/>
                </a:lnTo>
                <a:lnTo>
                  <a:pt x="22825" y="17806"/>
                </a:lnTo>
                <a:close/>
              </a:path>
              <a:path fill="darken" w="31638" h="21600">
                <a:moveTo>
                  <a:pt x="8812" y="3794"/>
                </a:moveTo>
                <a:lnTo>
                  <a:pt x="10475" y="3794"/>
                </a:lnTo>
                <a:lnTo>
                  <a:pt x="10475" y="17806"/>
                </a:lnTo>
                <a:lnTo>
                  <a:pt x="8812" y="17806"/>
                </a:lnTo>
                <a:close/>
              </a:path>
            </a:pathLst>
          </a:custGeom>
          <a:solidFill>
            <a:srgbClr val="fcfe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59BF-0576-4A86-B4D4-69C5BDC05B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9T13:15:28Z</dcterms:created>
  <dc:creator>Fritz Dellsperger</dc:creator>
  <dc:description/>
  <dc:language>en-US</dc:language>
  <cp:lastModifiedBy>F. Dellsperger</cp:lastModifiedBy>
  <dcterms:modified xsi:type="dcterms:W3CDTF">2004-02-04T10:44:31Z</dcterms:modified>
  <cp:revision>150</cp:revision>
  <dc:subject/>
  <dc:title>PowerPoint-Präsentation</dc:title>
</cp:coreProperties>
</file>